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28C-6AA0-4AC9-8627-055F102B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74F-6763-4B24-A025-1E40813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294-E552-4F73-9D16-31576110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B53-008E-4855-BA30-2488ECE8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A87F-4C7B-421C-8003-E6AC5B0F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D604-0024-4D9F-B075-EEE535ED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180-DEBE-43AF-B5D2-1D298710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65E-41AD-4147-A860-D55CB25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733F-3D03-4D1F-98D5-067B7AB7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6D55-75A6-478F-BDAE-E05D130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19F9-1E87-42AE-ACBE-C97D0CC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999-0326-42D3-8FA4-A2B14414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304-F1DE-4D64-8E14-91B78080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645-F4FE-4E5E-9123-179B089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3F25-1670-4566-B226-D0EC2F5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BE89-2A91-4BC4-B090-FB32B9D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35F-313F-45F9-B4BA-BBBD3EB2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0C4-8936-4067-B14E-63A9059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328-8F00-4DB4-B7EE-77F9C55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CCF-D534-4133-B104-9DEA87F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C01-92D3-4D6E-8E9E-B127250F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640-452E-460E-B107-D95F14F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F99-D9F2-43F6-AC3F-707E8AD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58A-A652-40CB-A36B-67FBB27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48F-ADB3-4763-B944-FBFE8862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AF8-B5C0-431F-A1D6-A10F28A3D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Bird’s Eye View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http://t1.gstatic.com/images?q=tbn:ANd9GcTD0IU8gRTZZ2AihXtkUYa4QlusdQ187-SRNwHDjF4ioosXt7_M"/>
          <p:cNvPicPr/>
          <p:nvPr/>
        </p:nvPicPr>
        <p:blipFill>
          <a:blip r:embed="rId1"/>
          <a:stretch/>
        </p:blipFill>
        <p:spPr>
          <a:xfrm>
            <a:off x="1752480" y="30481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High Ang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39680" y="-744480"/>
            <a:ext cx="2028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39680" y="-744480"/>
            <a:ext cx="2028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7" descr="http://www.depauw.edu/acad/film/images/psycho%20high%20angle.jpeg"/>
          <p:cNvPicPr/>
          <p:nvPr/>
        </p:nvPicPr>
        <p:blipFill>
          <a:blip r:embed="rId1"/>
          <a:stretch/>
        </p:blipFill>
        <p:spPr>
          <a:xfrm>
            <a:off x="4572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Low Ang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3968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0" descr="http://cache2.artprintimages.com/p/LRG/27/2749/991TD00Z/art-print/low-angle-view-of-a-group-of-young-men-holding-skateboards.jpg"/>
          <p:cNvPicPr/>
          <p:nvPr/>
        </p:nvPicPr>
        <p:blipFill>
          <a:blip r:embed="rId1"/>
          <a:stretch/>
        </p:blipFill>
        <p:spPr>
          <a:xfrm>
            <a:off x="137160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Eye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7" descr="http://artmused.files.wordpress.com/2010/02/photo318.jpg"/>
          <p:cNvPicPr/>
          <p:nvPr/>
        </p:nvPicPr>
        <p:blipFill>
          <a:blip r:embed="rId1"/>
          <a:stretch/>
        </p:blipFill>
        <p:spPr>
          <a:xfrm>
            <a:off x="1371600" y="2162160"/>
            <a:ext cx="35146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Angles-Canted/Dutch/Obl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https://lh4.googleusercontent.com/-ItnL9ok0lOE/TWrdW9Mm4-I/AAAAAAAABWA/hb4_gOL7ElI/s320/Screen+shot+2011-02-27+at+23.13.04.png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243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farm4.static.flickr.com/3424/3861335831_bc0af92ae6.jpg"/>
          <p:cNvPicPr/>
          <p:nvPr/>
        </p:nvPicPr>
        <p:blipFill>
          <a:blip r:embed="rId2"/>
          <a:stretch/>
        </p:blipFill>
        <p:spPr>
          <a:xfrm>
            <a:off x="0" y="3286080"/>
            <a:ext cx="4724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4T02:49:31Z</dcterms:modified>
  <cp:revision>93</cp:revision>
  <dc:subject/>
  <dc:title>Legacy Life Skills</dc:title>
</cp:coreProperties>
</file>